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F15-6EE6-4BF7-A1F1-21658E57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9F5-322F-49B9-9F26-068A238C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14842-71CE-47A3-9A34-AA2D92A0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B585B-0C72-4534-AD98-90587038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D3926-B898-4D43-8754-EECACD3D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02F74-9D8F-42B8-8D46-E4933F62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44321-B895-45F5-A48D-629E1620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FE67B-8887-4146-AB43-F37BB19A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C086B-33F6-4AF1-817A-BDD751A8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DD312-08E8-4DBD-AC65-838E9571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07375-9C63-48CC-A460-B9834CE1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06B17-F3F2-47A7-B5F5-C6B68442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623-B125-4447-A02B-5206C9CA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A580D-0024-4555-8BEB-2477B518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0E316-8C1D-4BE0-9E1D-6C683B5E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19523-AE1C-4288-AD2B-1E2CD601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A41B0-96F8-4660-80D1-732C870D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80922-09FB-4044-8744-F9E8121C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EE538-39EB-451D-BB7B-82376B7B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77F08-5528-4B33-8420-3BB3B395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CD7F8-9BD7-4CC3-88AC-36B435E7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6ADE1-D337-49A5-8255-A706ED2F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1CDD2-465A-4D53-990E-C484BFF7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0D5-CF32-4271-AB54-300D32BF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D7046-18C5-45B7-9B1F-02BE7ABC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89269-6B32-4503-9ADD-C94FF5AF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24695-4501-4CCB-8F90-3CA6809D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7AD1D-A0EE-43FC-9D8E-D60E4ACC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3678D-52A4-416A-96CA-F923BD2F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86E7E-A577-4C8D-93B3-3BED5B15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30149-2867-43A3-9840-76CC9C2B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94610-5F3B-4887-994E-A7DFDBD3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5F129-0683-47E8-B264-FBC6B699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82062-06FC-473A-BF53-42CC71AB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6BCC-27A7-4219-B329-0AA856BA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B61AA-1D2C-47F4-94D1-13888AD5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76081-9E15-44A6-BB27-5BE44EFC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67F32-9A2F-4297-80BF-1D0639DC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3B684-82C0-41BA-971E-407CA8E4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62C88-3748-4D1B-A0FE-C627E76E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B6116-7983-42E0-B324-B9A6CAED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3FD54-A965-4956-9406-64E14AB5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52A3E-11FE-421F-9D7D-7C9F9F0B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E234C-7DA0-46F7-971A-793A2793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E329B-F509-48AA-B0EA-7B42F387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A82A-36DF-4ED6-AC0E-E11929DD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EF3AF-7F68-443D-BC17-7E36023E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72A71-35FB-4764-A23B-DE24F038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A5460-3173-46E3-8C7F-D1F6E738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0170D-CD84-4B4C-A579-AD6BDC14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D7232-F33D-41E4-920C-53345DCB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0CAF-6AFE-4DAF-BB78-03458121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9778-3421-4C7B-9225-ABE5F3A4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B217-94C8-47BF-937C-2AB619E8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60C7-38D3-478E-BB7B-B2145A2C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257E-53AB-417E-BB36-33ACD230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60A-F5C9-4A90-A001-9EE52DE6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544D-ED57-4CC1-BB8C-0452D4EE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DD36-84F9-45C6-BBB0-8BDFED30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0782-F2CC-4070-A5F8-2BEF41A6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D872-6B72-4B7E-9175-57CF1A20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6895-5F67-4E79-9F11-3DE87998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43F5-F11E-4E70-96DE-AAFCE41C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1A5F1-0722-4B77-A1BC-0E297DF4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D4BBC-89C1-4D3A-A9E1-AAA937E5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87AF0-0B6D-449C-9FDF-AC32873E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7F8BC-6608-4B86-BDB4-B967D24D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3C2-12F3-46FE-BF8E-1F17EE38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63521-7824-4FED-8FD2-3EE7206B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FF696-1DAE-428B-AD65-AC974922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540C-3B8C-4EE0-A4F6-81BA72BA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4C22F-8B7C-48A8-B9C1-CED74BB2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A97D6-DF53-4A19-8C93-17197EA6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A2BE1-4E8E-4472-AB69-E5C67CE8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A1D45-F5B1-4BEF-969C-16340FE7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2EE00-10E0-44FB-9953-ED6FBB03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CF774-D3C3-48CE-A3A0-FED1AA2D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188D1-7067-4F8A-B31E-798EB37D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8F3-6F36-46A5-919B-8A6C307F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321EA-C413-4FAE-B4C8-89F31780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16DA9-6F7F-490E-AE05-63B1D1EB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ED0B4-1574-464D-94AF-3508ACC4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5E93-9E9F-473D-A0B2-3380C14E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7516B-A3E4-4A18-AF4A-4AF240CD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C0BC4-E1C1-467A-B8DA-42B09A95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4C6E3-A977-47E9-9EEC-34410456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4689-4949-4F86-8495-864D08C8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FC106-7309-424B-B2BD-0513437B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3DD39-03E7-4897-9686-38339D78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F257-8D4A-4807-84F1-CB6413CF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467F5-4A45-4C90-8A51-332620F0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65463-1D59-4EA1-B7C2-FAD302FE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55E04-D8A6-43CF-99E5-12425D2E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5B7C0-9F1E-41E0-A8C0-9439557A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8E395-A3C4-43CA-8F5A-28E66027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CD2F3-7C4E-456A-B0DD-6052C2B8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798D5-1D0F-4334-8330-ECD932D4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E4A2A-D4E9-4243-915A-A768857F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B4FC4-4827-4B5A-B397-C5E534BC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2F1D2-C51E-4DA0-BD70-011B7731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306-8D9A-4544-B2F3-0B473582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DA431-56FA-47EE-BB1B-662D2584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EBDF4-1CDC-4D6D-98BC-61F67072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30061-D830-42AA-97FE-347099A4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B053E-D116-4933-BCE1-BDA76FE1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3C15D-D5EA-44E1-AE8E-5FF9E4A3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2614C-E7AF-4D33-A5B2-E48AD2D8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2720E-0A72-4835-9FD1-56180D25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838CD-E89C-4D29-9539-5826852D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0216E-793D-4A7F-94E3-6E94BA69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3E6EE-3FB7-4206-BBCB-AB132DB0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733-3BE0-4567-A6A9-E975C43D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AA18C-2725-4F16-91BD-ECB73EA9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A0DF7-706D-4F5A-BCC4-7FF1189B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B6E4E-52C4-4A9F-890E-BBA37C0C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7417B-E628-4F13-9278-C6D83CCB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D0FC9-FD42-4BF7-B18D-E475461A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BBAB1-F6A2-4381-AFB1-2537EC07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74FDC-93E2-417A-82CE-485FF001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D1FF4-F68E-496A-842B-621951D3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2CE0D-72D0-4478-95BF-98C37336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D3B86-5575-431B-A9C7-9ECD17F9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60E-6BEE-48FE-96B2-4DB19C40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F3409-244A-430E-915A-EBE53EB0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0DF7A-2CF8-4153-B1C0-D18EDEEF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30197-980D-47F0-838A-0F24BBFA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F46CA-EC66-4EEA-838A-E44A7734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AE389-D4B9-4A03-A75F-84326F94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8345F-B8A4-42B6-94D6-FBCEE5B6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2E3FB-EE4A-40A6-B186-A36382A6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7ECB2-BD73-4486-9F34-AED46CA0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69864-006D-46AB-9FFE-1E58C908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F3602-263E-464D-AB0E-9C66C9B0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622-A6AA-42C5-BF21-30B604BB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08DB7-2323-4BCE-AEB0-FD6BDB64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61724-CA6B-49E5-9CD9-95FFEA18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19DA1-4A46-4ABD-8342-580C357D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196B5-7A1A-4F08-8954-A7DA9B06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DC2F6-3CB9-40B1-ADEA-53AE3643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3B4CE-08C5-46EA-B107-4E0F1120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BD672-B007-4EB2-A263-0DF7B655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768B2-8C80-4C0C-8C14-5FB40079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E703D-CB2D-48DB-9CEB-50350C8B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80243-4DB7-4190-83CA-B660F83B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9032-7B6D-4035-B8E6-7F26F42AF0D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8C9B-CEDC-4DAD-A972-44DF344583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5418-ACBD-436E-A29C-D88962ECCAC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3FCF-E99C-4256-9D42-5295E98F3FE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F138-DC3B-4F65-ACF9-4B383F622D6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78AE-434F-461F-B0DA-1D7F6C87576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4C7F-D8F1-4DD9-A3B9-03108FEA01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7460-3BFA-4ACF-8A0B-6F44291BCC4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75CE-0BE6-46D1-B533-FF488BABF2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3345-D9D6-48C3-9DD7-495E6A1753C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AB3D-5502-4B20-85AE-CF1501EC376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7B7F-699D-41A5-807D-ABCE699BCBF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5 Všemohúci Bož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y sám si náš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, Kráľ, svetlo, krá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, naša spás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mohúci Bož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e patrí sl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ud tvoj v úcte česť ti vz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zhromaždení svät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rne a vďač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ýtiť chceme duše lač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y sám si náš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a zdroj stá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den našej chvá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rítomnosti tvoj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erubíni slúž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ôľu tvoju konať túž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ätý, svätý, svätý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ejú nebies chór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 sa ti v úcte kor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Tvoj trón piesní tó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vďakou našou le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e, Otče svät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rítomnosti tvoj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a sveta sl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ýchlo vädne, opa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zum, vôľu, ci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ždý dar, čo m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láskou tebe odovzd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7:56:52Z</dcterms:modified>
  <cp:revision>12</cp:revision>
  <dc:subject/>
  <dc:title>Je veľký náš Pán, on slávy je Kráľ Nech do všetkých strán  spev vrúcnych znie chvál.</dc:title>
</cp:coreProperties>
</file>